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7B6C-C4ED-41EC-AB55-C307560F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945-130A-454C-804E-AE6C07D6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A196-4987-44D8-9152-1AB4B082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ECF-5B20-475C-8D14-FF842537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BDB7-FF54-4937-B80C-9CE24434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8F0A-A651-450E-B13E-9D5E6332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9BA7-3633-4367-946D-96AA88F3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0A68-AC72-44D3-8FB8-AC582D5E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30CD-96BB-4784-8079-5929F0F7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3BAB-2D44-46A3-AB54-68770411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1CA8-B992-4644-B344-563BCD94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1200-C190-4A23-9A7B-F60F6600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3113-B83A-44CE-A62A-2386A174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736B-3D14-4707-9F9C-8E3B6DEF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3F30-F49D-40C0-A7F1-B22826CA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96C6-11D0-4B81-AD14-A3766131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839F-906F-4BFA-8DB1-AF4F366A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9E74C-EF2A-4049-AEE0-2412E718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89D56-CD4D-4AC7-B8EF-15E467E0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16463-87AC-4473-8E2B-A94808AE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5C42F-B002-47DB-8F24-CBD3E183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545BA-FE43-4370-A938-B1C355C5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882-8FB1-48DA-BD1E-28AD977E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1009C-70D6-41E9-ACEB-A2187BD4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9C0FF-B1FA-4816-8696-CFE1E59C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635C0-5C45-47B4-B28C-F4915350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0127F-7301-438E-B86E-35ED5A5A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D1964-2EBF-4070-81F7-86646A00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C4A8C-3A0A-4D3C-8BF7-B9429FE4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9E235-159E-4C03-99A7-52B41C69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FDA20-63EB-44FE-8B0F-63C98969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64446-BE6F-4077-ABA0-31F07D54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3A82B-DAB7-4985-817F-E3D81DA6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F1A0-2476-4D0E-940F-3591ED2F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005F4-C945-4725-BBB2-8C4BF0D4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D9D5D-CCFC-4F4F-B2C0-B50101A8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F90A6-E912-4566-A1CD-FC1B74C0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D2874-9E8F-43BA-8EE2-23C5543E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ACAC1-8879-4677-A297-4352989D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63606-FC89-4CCD-BCE6-D8883CF3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60865-7CFD-4C6E-A203-5FA2442F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C9CFF-2F46-4AC6-9CD6-717D9E7D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4CD62-B755-4515-A553-72DF348F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809B3-55FB-4473-9E6E-B4EA0C67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24C-C9DB-4E9F-B4C8-8303496D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1E37B-7610-49A3-A822-E832B9AA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50F7B-904C-4722-8603-4E22ABB8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2D35D-581A-4FF1-9029-F028C01F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C3D30-3102-4DD2-B5B9-541C90EC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73480-3E01-4232-AD37-1104DB83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AA4AD-5794-4F6B-A190-D290F60B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6DAA9-303F-432E-8460-4BEEB522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28F0F-DC8C-4817-9D4F-DBF110AC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2913B-4609-4901-A275-1679DC7B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46FAC-6B81-474C-93D2-50C312A9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AFC-D699-41F0-885C-6F0B0A9A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FAD8C-5B52-461E-B994-5B5BD9D6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EBC61-C27A-4F03-99F4-2E574664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96D41-2C14-4214-A5DD-4C13739A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AE4B0-35CA-42AE-A01A-5D44A8EA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5165D-8A2C-4628-9AAA-12142C77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E1A47-43E7-4A68-B5D6-AFA838C4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9C311-3FA0-455E-8625-08C52CED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7CB95-E727-4998-9B40-6C5E266C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1D8C6-3668-46D7-8C92-03023969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6F8B3-E1A4-4227-B95F-D83A8A09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70C-9928-487E-95A9-B8AF63A5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032E0-B9B0-4F2B-A09F-7FF94947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0F623-869E-4BEE-9394-35A4F0E7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CAC0D-F04A-4263-A0E8-E80084E2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0781E-9F20-4E6A-A81A-74CEF418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596BD-CD61-4CCE-B37D-CC2C81DE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CDD21-DD7B-495B-8319-8CD78227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75557-07C7-4E8A-BE74-8630B267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D0277-CCAD-497A-8523-3B7E1BBA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78EB9-DD64-4235-AF91-6A5783E5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421E6-3F39-4FA6-8363-58A204C2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8B8-1DF4-4FB8-A151-68695B4F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ABDBE-A9F9-43CF-B71D-50294A4A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1B791-2719-4C94-B017-F5E4A14E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40B8F-0C77-41B2-A62C-0D3AF35F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68B1A-7B69-4C60-BFA7-E8EFD13C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673FB-71DB-4F51-87E6-8D942785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A36-6CED-4664-B07D-982AFF28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5775-7BC9-4147-8F0E-C6126C0807E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C166-BFAA-4393-B972-581082C6217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DF25-83BB-48CF-89D7-2C0FF690412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8C88-07D2-43C0-B5C2-F8F1ABA3459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B9FE-975B-4BA7-B718-93F0FB9F999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6876-E7E8-46D5-BEB4-732C95D232C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61B1-EDA6-4AE7-8C68-4451275A535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y: Octoberian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6" name="Content Placeholder 3" descr="HOM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MMUNIT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9" name="Content Placeholder 3" descr="COMMUNITIES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1" name="Content Placeholder 3" descr="COMMUNITITES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CHOO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2" name="Content Placeholder 3" descr="CLASSROOM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4" name="Content Placeholder 3" descr="CLASSROOM5.jpg"/>
          <p:cNvPicPr/>
          <p:nvPr/>
        </p:nvPicPr>
        <p:blipFill>
          <a:blip r:embed="rId1"/>
          <a:stretch/>
        </p:blipFill>
        <p:spPr>
          <a:xfrm>
            <a:off x="0" y="0"/>
            <a:ext cx="6730920" cy="4203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LASSROOM4.jpg"/>
          <p:cNvPicPr/>
          <p:nvPr/>
        </p:nvPicPr>
        <p:blipFill>
          <a:blip r:embed="rId2"/>
          <a:stretch/>
        </p:blipFill>
        <p:spPr>
          <a:xfrm>
            <a:off x="5651640" y="3213000"/>
            <a:ext cx="3492360" cy="3645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CLASSROOM1.jpg"/>
          <p:cNvPicPr/>
          <p:nvPr/>
        </p:nvPicPr>
        <p:blipFill>
          <a:blip r:embed="rId3"/>
          <a:stretch/>
        </p:blipFill>
        <p:spPr>
          <a:xfrm>
            <a:off x="0" y="3357720"/>
            <a:ext cx="5715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ORKPLAC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Content Placeholder 3" descr="WORKPLACE2.jpg"/>
          <p:cNvPicPr/>
          <p:nvPr/>
        </p:nvPicPr>
        <p:blipFill>
          <a:blip r:embed="rId1"/>
          <a:stretch/>
        </p:blipFill>
        <p:spPr>
          <a:xfrm>
            <a:off x="4572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1" name="Content Placeholder 3" descr="WORKPLACE1.jpg"/>
          <p:cNvPicPr/>
          <p:nvPr/>
        </p:nvPicPr>
        <p:blipFill>
          <a:blip r:embed="rId1"/>
          <a:stretch/>
        </p:blipFill>
        <p:spPr>
          <a:xfrm>
            <a:off x="349200" y="1523880"/>
            <a:ext cx="8791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M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4" name="Content Placeholder 3" descr="HOME4.jpg"/>
          <p:cNvPicPr/>
          <p:nvPr/>
        </p:nvPicPr>
        <p:blipFill>
          <a:blip r:embed="rId1"/>
          <a:stretch/>
        </p:blipFill>
        <p:spPr>
          <a:xfrm>
            <a:off x="163440" y="0"/>
            <a:ext cx="898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5:03:16Z</dcterms:created>
  <dc:creator>Imperialdramon</dc:creator>
  <dc:description/>
  <dc:language>en-US</dc:language>
  <cp:lastModifiedBy>Student</cp:lastModifiedBy>
  <dcterms:modified xsi:type="dcterms:W3CDTF">2012-07-12T00:49:07Z</dcterms:modified>
  <cp:revision>2</cp:revision>
  <dc:subject/>
  <dc:title>Dehumanization</dc:title>
</cp:coreProperties>
</file>